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EC6-5B79-4E12-89FD-A2F47FB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F98-2BA6-4108-ABA3-4E0B03C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A5B-190F-4294-8F70-0C0EB505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281-9942-4858-B476-C3F824E3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9C5-0DEA-479C-9F4E-30BBDBB3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194-B6C0-48EB-B718-7B5BDBB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73E-D1B2-4C1C-B8CD-F3C79FE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95F-04D1-4B44-BD4F-693DB211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88E-0EC1-4E30-B983-1A7EE18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F6F-C18B-410B-A11A-253282B4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A72-EA1C-4CE9-9399-660AD7D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95B-9C61-447A-9A64-4E33F9E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06A-5796-48C3-8001-1EA83827D3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6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4327560" y="2889720"/>
            <a:ext cx="55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爱设计 爱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781440" y="3490200"/>
            <a:ext cx="44370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Powerful   and  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首届</a:t>
            </a:r>
            <a:r>
              <a:rPr b="0" lang="en-US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设计大赛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wps-office"/>
          <p:cNvPicPr/>
          <p:nvPr/>
        </p:nvPicPr>
        <p:blipFill>
          <a:blip r:embed="rId2"/>
          <a:stretch/>
        </p:blipFill>
        <p:spPr>
          <a:xfrm>
            <a:off x="5554800" y="6208560"/>
            <a:ext cx="108252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557360" y="66492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594440" y="10159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9" descr="目录图标.png"/>
          <p:cNvPicPr/>
          <p:nvPr/>
        </p:nvPicPr>
        <p:blipFill>
          <a:blip r:embed="rId2"/>
          <a:stretch/>
        </p:blipFill>
        <p:spPr>
          <a:xfrm>
            <a:off x="3851280" y="168588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目录图标.png"/>
          <p:cNvPicPr/>
          <p:nvPr/>
        </p:nvPicPr>
        <p:blipFill>
          <a:blip r:embed="rId3"/>
          <a:stretch/>
        </p:blipFill>
        <p:spPr>
          <a:xfrm>
            <a:off x="3851280" y="258912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目录图标.png"/>
          <p:cNvPicPr/>
          <p:nvPr/>
        </p:nvPicPr>
        <p:blipFill>
          <a:blip r:embed="rId4"/>
          <a:stretch/>
        </p:blipFill>
        <p:spPr>
          <a:xfrm>
            <a:off x="3851280" y="3538440"/>
            <a:ext cx="4692600" cy="865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目录图标.png"/>
          <p:cNvPicPr/>
          <p:nvPr/>
        </p:nvPicPr>
        <p:blipFill>
          <a:blip r:embed="rId5"/>
          <a:stretch/>
        </p:blipFill>
        <p:spPr>
          <a:xfrm>
            <a:off x="3851280" y="4543560"/>
            <a:ext cx="4692600" cy="865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5498280" y="19080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5035680" y="281160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为什么要学习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5274000" y="378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能给我们带来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5425200" y="478692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如何学好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过渡页图标.png"/>
          <p:cNvPicPr/>
          <p:nvPr/>
        </p:nvPicPr>
        <p:blipFill>
          <a:blip r:embed="rId2"/>
          <a:stretch/>
        </p:blipFill>
        <p:spPr>
          <a:xfrm>
            <a:off x="3213000" y="1271520"/>
            <a:ext cx="576576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769000" y="33534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内容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924560" y="654840"/>
            <a:ext cx="23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一、初步接触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5" descr="内容页图标.png"/>
          <p:cNvPicPr/>
          <p:nvPr/>
        </p:nvPicPr>
        <p:blipFill>
          <a:blip r:embed="rId2"/>
          <a:stretch/>
        </p:blipFill>
        <p:spPr>
          <a:xfrm>
            <a:off x="700200" y="450720"/>
            <a:ext cx="1015920" cy="94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822400" y="3251160"/>
            <a:ext cx="669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(Word Processing System),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中文意为文字编辑系统，是金山软件公司的一种办公软件。最初出现于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198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年，在微软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indow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出现以前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DO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盛行的年代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曾是中国最流行的文字处理软件，现在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最新正式版为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2012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，另外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200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专业版也已面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4448160" y="2889720"/>
            <a:ext cx="28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747960" y="3539520"/>
            <a:ext cx="44373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Powerful   and  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首届</a:t>
            </a:r>
            <a:r>
              <a:rPr b="0" lang="en-US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1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设计大赛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wps-office"/>
          <p:cNvPicPr/>
          <p:nvPr/>
        </p:nvPicPr>
        <p:blipFill>
          <a:blip r:embed="rId2"/>
          <a:stretch/>
        </p:blipFill>
        <p:spPr>
          <a:xfrm>
            <a:off x="5554800" y="6208560"/>
            <a:ext cx="108252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微软用户</cp:lastModifiedBy>
  <dcterms:modified xsi:type="dcterms:W3CDTF">2013-01-24T07:00:1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